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C4C-4C45-424A-993A-A89AB5CA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BD8-2D94-42DC-95AF-3F79BF84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863-760B-4C72-ADBF-3C3F59F1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69F-28EC-4C0B-B6A1-F3D9FBCB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73D-C531-46CC-82B2-B404A3C0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D50-3FD2-4263-9B9F-EB3271F2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7E19-9B9F-4D0F-BD39-A5401923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3D4-46D9-4D77-B121-6D2E98F7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D2E-5833-4861-9AB1-A61618DD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E84-09ED-42D9-8D72-726BB38F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847-A7D8-4074-83EC-B8D2E27A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D64-D63A-4448-8C77-1D2D7FDA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5944-50AA-485A-A272-5AADDE7EA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paulwhitephotos.com.au/album/MurrayRiver/slides/MRV%20(5).html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hyperlink" Target="http://en.wikipedia.org/wiki/File:CyanobacteriaInPool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urlz MT"/>
              </a:rPr>
              <a:t>Murray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c7cc"/>
                </a:solidFill>
                <a:latin typeface="Comic Sans MS"/>
              </a:rPr>
              <a:t>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Cattleya Ma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c7cc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Papyrus"/>
              </a:rPr>
              <a:t>Ivy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onotype Corsiva"/>
              </a:rPr>
              <a:t>The Murray River was discovered by Hume and Hovell ,they named it ‘Murray’ after Secretary of State for the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0600" y="1838160"/>
            <a:ext cx="4762800" cy="3181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90600" y="1838160"/>
            <a:ext cx="4762800" cy="3181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Image: Lake Mulwala"/>
          <p:cNvPicPr/>
          <p:nvPr/>
        </p:nvPicPr>
        <p:blipFill>
          <a:blip r:embed="rId3"/>
          <a:stretch/>
        </p:blipFill>
        <p:spPr>
          <a:xfrm>
            <a:off x="395280" y="333360"/>
            <a:ext cx="3168720" cy="2122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2637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elix Titling"/>
              </a:rPr>
              <a:t>What the Murray looks like nowa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3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Papyrus"/>
              </a:rPr>
              <a:t>Native Wild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The  Murray River is the home of many native fish and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Murray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Trout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Golden pe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Macquarie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Silver pe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Ill-tailed cat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Australian sm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Western carp gudg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Murray river  cray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Murray short-necked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Broad clawed yab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Large clawed macrobrac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Long –necked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Common yab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Parataya shr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Water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Platy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Papyrus"/>
              </a:rPr>
              <a:t>Th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The extinction of native wild life e.g. The Murray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Cyanobacteria (blue green alga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The dr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The intruder carp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Over fishing marine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Sal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2060640"/>
            <a:ext cx="3924360" cy="24685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8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9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9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0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0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1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Papyrus"/>
              </a:rPr>
              <a:t>Marine Animals Extin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Monotype Corsiva"/>
              </a:rPr>
              <a:t>A carp fish has been ruining the right habitat for the native fish, the Carp was introduced to Australia by  the Germ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Monotype Corsiva"/>
              </a:rPr>
              <a:t>The carp to be re moved from Australia so native fish to have their dream habi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Monotype Corsiva"/>
              </a:rPr>
              <a:t>To use carp for  other things (fertilizer), food, etc. so they will not disturb the proper balance of the food chain and will not stir up the water in the Mur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27280" y="1125360"/>
            <a:ext cx="381960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Papyrus"/>
              </a:rPr>
              <a:t>Current Situation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Papyrus"/>
              <a:ea typeface="Papyru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132000" y="2349360"/>
            <a:ext cx="28670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Desired Outcome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00360" y="3789360"/>
            <a:ext cx="3800520" cy="9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urlz MT"/>
              </a:rPr>
              <a:t>Proposed Action And Guidlines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p:transition spd="med">
    <p:comb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8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03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2c7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Sal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alinity is when any type of liquid has too much sa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here are types of sal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Dryland sal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Irrigation sal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ea water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he country to have enough money to fix the Murray River and reduce the level of sali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We should educate the farmers on the effects that their irrigation systems have on the Mur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ducate people to use water properly and don’t waste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ducate people about the effects pollution has on our major wate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lant deep rooted plants around the 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11280" y="1052640"/>
            <a:ext cx="39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Papyrus"/>
              </a:rPr>
              <a:t>Current Situation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Papyrus"/>
              <a:ea typeface="Papyru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43280" y="2781360"/>
            <a:ext cx="28670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Desired Outcome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2" name=""/>
          <p:cNvSpPr txBox="1"/>
          <p:nvPr/>
        </p:nvSpPr>
        <p:spPr>
          <a:xfrm rot="237600">
            <a:off x="1834920" y="3860280"/>
            <a:ext cx="3800520" cy="7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urlz MT"/>
              </a:rPr>
              <a:t>Proposed Action And Guidlines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p:transition spd="med">
    <p:comb dir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77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77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1" dur="77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4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7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20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b9a1"/>
            </a:gs>
            <a:gs pos="100000">
              <a:srgbClr val="4a554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Cyanobacteria (Blue Green Alga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Cyanobacteria is a problem in the Murray River that is affecting both animal and plants. It can also affect the air in our natu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A better habitat for our animals, plants and marine wild lif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We could try and lower temperatures by using less electricity and recycling to stop global warming then it would be cooler .And water temperatures will drop and then th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Blue-Green Algae will fade away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627280" y="1125360"/>
            <a:ext cx="38275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Papyrus"/>
              </a:rPr>
              <a:t>Current Situation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Papyrus"/>
              <a:ea typeface="Papyru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771640" y="2276640"/>
            <a:ext cx="2867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Desired Outcome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37400" y="5592600"/>
            <a:ext cx="1506600" cy="1265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380360" y="515772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50920" y="3213000"/>
            <a:ext cx="3800520" cy="7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urlz MT"/>
              </a:rPr>
              <a:t>Proposed Action And Guidlines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p:transition spd="med">
    <p:comb dir="vert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1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3:23:32Z</dcterms:created>
  <dc:creator>Primary School</dc:creator>
  <dc:description/>
  <dc:language>en-US</dc:language>
  <cp:lastModifiedBy>Primary School</cp:lastModifiedBy>
  <dcterms:modified xsi:type="dcterms:W3CDTF">2009-05-13T02:35:22Z</dcterms:modified>
  <cp:revision>11</cp:revision>
  <dc:subject/>
  <dc:title>Murray River</dc:title>
</cp:coreProperties>
</file>